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67AB-E499-4441-AB8C-BEF1112D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CCB-77F3-4969-AA6A-F68A57BB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6487-5FF0-4F31-ADAA-AD053A29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FE59-2279-42F7-9424-53B6315D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5A3C-1217-4565-B72A-1DD4D54B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3859-0934-4C1C-8F4B-B63C036D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78BF-8ECE-4109-AC2E-0529E0C3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678-84EA-4C80-B286-6E6B37AA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969C-6B7A-4E94-95CA-D9281702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FC72-4C91-4FFB-B08C-4C09AE3F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959A-3DFB-45AB-AE13-E6422DA8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CA56-E039-45C8-BBB7-6FFFC94E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4DEC-8CEA-47AD-A358-610776B062A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77080" cy="58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08:11:58Z</dcterms:created>
  <dc:creator>X4195945</dc:creator>
  <dc:description/>
  <dc:language>en-US</dc:language>
  <cp:lastModifiedBy>X4195945</cp:lastModifiedBy>
  <dcterms:modified xsi:type="dcterms:W3CDTF">2010-12-29T08:12:33Z</dcterms:modified>
  <cp:revision>1</cp:revision>
  <dc:subject/>
  <dc:title>שקופית 1</dc:title>
</cp:coreProperties>
</file>