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FC9-8D1A-442F-BF07-49EDE2A3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03A-622A-452F-9A8A-6CA64200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908-F598-4293-990C-5D01EC0D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32F-AB71-4BE4-A50C-4743D3FA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97A-32A1-4632-B0C2-12D9031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FAF-DAAA-419C-8623-4B3FBB1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1E5-9A6F-44AB-84DF-B911D97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4A7-070A-41B6-91FD-9EF1CDC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915-E9DB-4FB5-856D-B406037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D00-D0D9-4C75-A3ED-4073623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01E-792B-4CC2-8FE8-7431EC4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9F2-FAD2-41A7-B7F9-9C8F2E7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9FDA-EB94-4067-B6E9-CFD89A2648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1:58Z</dcterms:created>
  <dc:creator>X4195945</dc:creator>
  <dc:description/>
  <dc:language>en-US</dc:language>
  <cp:lastModifiedBy>X4195945</cp:lastModifiedBy>
  <dcterms:modified xsi:type="dcterms:W3CDTF">2010-12-29T08:12:33Z</dcterms:modified>
  <cp:revision>1</cp:revision>
  <dc:subject/>
  <dc:title>שקופית 1</dc:title>
</cp:coreProperties>
</file>