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E51E-DB8B-45E9-82AB-FA4AB60D7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23D4-F74B-458A-97F6-039E6498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0A7D-9CF9-4034-9DCE-42F75ACE9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7E7B-FFF1-4239-B745-8A87D275D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B131-AAC8-4688-871F-BDFBF5FA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DFAC-26DA-43A8-ABF2-D8D2A39A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FAC7-2566-4013-B208-AB50DCBE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7A52-BAEE-4CF6-A2D4-5C20D616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95D8-A6BE-49E0-B7B4-615F30EE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FF3B-E03F-4B64-88A9-68C58BA9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59C8-E548-4D47-A339-3CF28571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BB23-23BA-4540-9892-1BCE24CA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4C5F-D3F6-453B-BAFF-2F21DB3E35C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86640" cy="567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9T08:13:15Z</dcterms:created>
  <dc:creator>X4195945</dc:creator>
  <dc:description/>
  <dc:language>en-US</dc:language>
  <cp:lastModifiedBy>X4195945</cp:lastModifiedBy>
  <dcterms:modified xsi:type="dcterms:W3CDTF">2010-12-29T08:13:31Z</dcterms:modified>
  <cp:revision>1</cp:revision>
  <dc:subject/>
  <dc:title>שקופית 1</dc:title>
</cp:coreProperties>
</file>