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A0A-CADF-4580-915A-82C042C4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82E-1E07-47D0-ADA2-2239DE1A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8D6-6BE2-49BE-9E62-F56BB821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D6C-6230-47BE-B0E0-37201128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195-9EB2-4226-A769-73E40AC0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82A-21DA-42D1-88E0-63EE7B1E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496-18C3-454A-A1FB-74987095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BEA-EE26-4C83-8961-C7D19163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AEE-A1C7-47AF-AF2D-02835D1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DE5-2381-4F5C-8916-FF516C6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341-8ABA-47F5-848F-8D03855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8A1-A346-4243-A951-89A163D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ECC4-CDC2-43F7-B2A3-7D25C62CA1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664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3:15Z</dcterms:created>
  <dc:creator>X4195945</dc:creator>
  <dc:description/>
  <dc:language>en-US</dc:language>
  <cp:lastModifiedBy>X4195945</cp:lastModifiedBy>
  <dcterms:modified xsi:type="dcterms:W3CDTF">2010-12-29T08:13:31Z</dcterms:modified>
  <cp:revision>1</cp:revision>
  <dc:subject/>
  <dc:title>שקופית 1</dc:title>
</cp:coreProperties>
</file>